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CBB9-EA08-4367-A041-3812F0433C7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1883-82EF-412A-AEAF-57B85D603C19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90E9-C9A7-4348-95E6-A84CAB73AEA0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8623-104A-4511-83DF-59CCF51E95D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4A73-B481-4A65-B156-64B72125C7B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29A5-D602-4DF4-8691-DFF3C593D5E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85E8-2876-48FF-81C8-03277927846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50A9-0135-471A-A276-45D5CD0501C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15A9-AF66-49FA-8782-506A4C207630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F98C-9556-4CD5-A4F2-9B4B2570E61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5ABA-44F4-4896-8784-E6020347C6F9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2C19-E9C9-4D8F-8230-708FF2C56B3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04FA-57F7-4FFD-B3A0-BFBB4DB18EF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6700-0B17-47CB-A626-AC99C5AC780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FA18-693B-4333-B4D9-892402A1187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EB35-3639-40E4-8DF5-835A686834C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8F4D-B16A-45DE-AA4A-ADA95656449A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04F8-2E39-43AF-B7D0-67A53874FD8A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2239-25A4-49EF-B753-6F4F38732310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D948-0C65-4841-B83F-1EA6B074B3D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C514-B3E5-49C5-8D0E-20E9509F876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3203-B4D1-455B-BE4E-75153F26CB0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C043-C509-4C4E-AA11-EF3745A1DA5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F7EC-D290-4364-9B91-515B7D846B9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F08A-C1CF-4E38-AAEF-323C40795AA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B731-C779-421F-8BF7-5A22F5EEB71A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6683-5C65-4450-9CF2-399919C8421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F4D8-6BA5-4132-8D44-EBA4048CE1C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641C-897A-478E-8796-7883FA7B37BA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242D-9543-41D8-971A-BCD4983E56C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A8B3-F746-4981-95BD-28FF04090349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2B74-48B0-498D-9F43-7DAD2FBBE63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7CC8-F0B3-42F9-921E-2E8B6B7EAB4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1BA3-527C-4C8B-99BA-5F3D7166003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03B8-0907-4E73-BABA-87FFCA96EFD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72F8-9119-40EF-AD3E-5AA0A67A6EA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ADEA-E5E2-42BF-93B6-4C619F3C9B2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3ECD-B781-47AA-BFDD-92C8C7D6BE89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A591-B00A-4ED5-9ED0-15376589988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E944-12D1-45CE-B362-71F92198CF2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B347-FD28-48CE-8279-65338628800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377D-5EBC-4FD4-9E1D-4D9BC11FEDD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4283-4A23-4BC5-8185-7DAC574E037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6BD7-63DA-4A64-A6F7-5BEF61FDB56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CA70-45E3-4034-BF68-BA79EA9AE59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E27E-E374-40E9-BDAE-4035FAD3EAC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3A04-2A98-410D-87F7-3601330B041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9FAE-5DFB-4E65-9DA5-FC80B198C00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2605-0341-416B-85CF-CC0D499E9BE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5187-6A09-4D49-9963-C442E65AD539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A052-B584-4C3B-9AF4-1F70A59DB6F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6054-BE95-4936-A0C9-812E26970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54CB-9364-473D-A645-D094927B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8328-AC51-4696-B692-823D965D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A145-0D96-4CB6-B935-D87A8B730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BB46-8F8E-43AF-A8CB-DDEFD6A2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D74F-7290-4C4D-8958-A098B873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6E4B-885F-4C1E-A8F6-2DB1BEB4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C5FC-4E45-42E9-90F2-DD5B1F69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8904-E21D-4778-9D97-7B941FD4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841D-0479-47D5-AD5E-BFFD24BA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B8FF-BF3A-46FD-AC78-9AB75615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917C-74AA-484B-82E4-B7EA09AF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40EE-DFC9-45FE-8039-8A4C3E1E71B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4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2060"/>
                </a:solidFill>
                <a:latin typeface="Arial"/>
              </a:rPr>
              <a:t>ΑΙΜΑΤΟΛΟΓΙΑ 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2060"/>
                </a:solidFill>
                <a:latin typeface="Arial"/>
              </a:rPr>
              <a:t>Χ. Ζηλίδ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ΠΛΑΣΜ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24000" y="1052280"/>
            <a:ext cx="88200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Κύριο συστατικό του αίματος (55% του όγκου) Υποκίτρινο υγρ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Ιδια ιοντική σύσταση με το εξωκυττάριο υγρ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Αποτελείται από → 91.5%  νερ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                              →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7% πρωτεΐνε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      →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1.5% ορμόνες, βιταμίνε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                                   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αναπνευστικά αέρια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                                   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ηλεκτρολύτε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                                    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αζωτούχες ουσίε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ΣΥΣΤΑΤΙΚΑ ΤΟΥ ΠΛΑΣ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49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7120" indent="-27144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cc3300"/>
                </a:solidFill>
                <a:latin typeface="Arial"/>
              </a:rPr>
              <a:t>Πρωτεϊνες (7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 Αλβουμίνη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 Σφαιρίνε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 Ινωδογόν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27144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cc3300"/>
                </a:solidFill>
                <a:latin typeface="Arial"/>
              </a:rPr>
              <a:t>Άλλες ουσίες (1,5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 Ορμόνε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 Βιταμίνε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 Αναπνευστικά αέρι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 Αζωτούχες ενώσει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27144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cc3300"/>
                </a:solidFill>
                <a:latin typeface="Arial"/>
              </a:rPr>
              <a:t>Ηλεκτρολύτες (ιόντ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χει την ίδια σύσταση ιόντων με το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                                                  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ξωκυττάριο υγρ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ΣΥΣΤΑΤΙΚΑ ΤΟΥ ΑΙΜΑΤΟ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762120" y="781200"/>
            <a:ext cx="761976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ΛΒΟΥΜΙΝ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96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7120" indent="-2714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Είναι η πρωτεϊνη με την υψηλότερη συγκέντρωση στο πλάσμ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2714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Συντίθεται στο ήπα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cc3300"/>
                </a:solidFill>
                <a:latin typeface="Arial"/>
              </a:rPr>
              <a:t>ΛΕΙΤΟΥΡΓΙ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2714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Λειτουργεί ως πρωτεΐνη μεταφοράς για ορισμένες ουσίες με χαμηλή διαλυτότητα στο νερό (π.χ. χολερυθρίνη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2714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Επηρεάζει την κολλοειδοσμωτική ισορροπί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ΣΦΑΙΡΙΝΕ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496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4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Είναι διαφορετικές ομάδες πρωτεϊνών, με σφαιρικό σχήμα μορίου (σφαιρίνες), οι οποίες επιτελούν διαφορετικές λειτουργί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ΛΕΙΤΟΥΡΓΙ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2714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Πρωτεϊνες μεταφοράς (π.χ. φεριτίν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2714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Παράγοντες πήξ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2714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ύστημα συμπληρώματ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2714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Πρόδρομες ουσίες ορμονών (π.χ. αγγειοτενσινογόνο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2714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γ-σφαιρίνες, δρουν σαν αντισώμα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ΙΝΩΔΟΓΟΝ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7120" indent="-2714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ίναι πρωτεϊνη που συμμετέχει στο μηχανισμό της πήξη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2714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Κατά τη διάρκεια της πήξης μετατρέπεται σε ινώδε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ΕΜΜΟΡΦΑ ΣΥΣΤΑΤΙΚ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1835280" y="1413000"/>
            <a:ext cx="597672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163440" y="260280"/>
            <a:ext cx="865656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ΚΥΤΤΑΡΑ ΤΟΥ ΑΙ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2" name="Picture 4" descr="5"/>
          <p:cNvPicPr/>
          <p:nvPr/>
        </p:nvPicPr>
        <p:blipFill>
          <a:blip r:embed="rId1"/>
          <a:stretch/>
        </p:blipFill>
        <p:spPr>
          <a:xfrm>
            <a:off x="324000" y="2565360"/>
            <a:ext cx="864072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ΚΥΤΤΑΡΑ ΤΟΥ ΑΙ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640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 u="sng">
                <a:solidFill>
                  <a:srgbClr val="333399"/>
                </a:solidFill>
                <a:uFillTx/>
                <a:latin typeface="Arial"/>
              </a:rPr>
              <a:t>Ερυθροκύτταρα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(ερυθρά αιμοσφαίρι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 u="sng">
                <a:solidFill>
                  <a:srgbClr val="333399"/>
                </a:solidFill>
                <a:uFillTx/>
                <a:latin typeface="Arial"/>
              </a:rPr>
              <a:t>Λευκοκύτταρα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(λευκά αιμοσφαίρι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- Πολυμορφοπύρηνα κοκκιοκύτταρ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(ουδετερόφιλα, βασεόφιλα, ηωσινόφιλ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- Μονοκύτταρ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- Λεμφοκύτταρ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 u="sng">
                <a:solidFill>
                  <a:srgbClr val="333399"/>
                </a:solidFill>
                <a:uFillTx/>
                <a:latin typeface="Arial"/>
              </a:rPr>
              <a:t>Αιμοπετάλ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569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ΠΕΡΙΕΧΟΜΕΝΟ ΑΙΜΑΤΟΛΟΓΙΑΣ-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50560" y="1267920"/>
            <a:ext cx="889308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1. Το αίμα και τα συστατικά το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2. Αιμοποίηση – αιμοποιητικά όργαν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3. Ερυθρά αιμοσφαίρια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4. Αντιγονικά συστήματα ερυθρών - ομάδες αίματο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5. Μεταβολισμός σιδήρου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6. Σιδηροπενική αναιμία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7. Μεγαλοβλαστική αναιμί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8. Αιμολυτικές αναιμίε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9. Αιμοσφαιρινοπάθειες: Β-μεσογειακή αναιμί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10. Αιμοσφαιρινοπάθειες: Δρεπανοκυτταρική αναιμί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ΓΕΝΙΚΗ ΕΞΕΤΑΣΗ ΑΙΜΑΤΟ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Είναι η ποσοτική και αδρή μορφολογική μελέτη των έμμορφων συστατικών του αίματο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Η ποσοτική μελέτη αναφέρεται στην εκτίμηση του αριθμού κάθε κατηγορίας κυττάρων στη μονάδα του όγκο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777240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ΕΡΥΘΡΟΚΥΤΤΑΡ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24000" y="2133360"/>
            <a:ext cx="84960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9" name="Picture 4" descr="2"/>
          <p:cNvPicPr/>
          <p:nvPr/>
        </p:nvPicPr>
        <p:blipFill>
          <a:blip r:embed="rId1"/>
          <a:stretch/>
        </p:blipFill>
        <p:spPr>
          <a:xfrm>
            <a:off x="1835280" y="2276640"/>
            <a:ext cx="554508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ΕΡΥΘΡΟΚΥΤΤΑΡ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24000" y="16002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Είναι απύρηνα κύτταρ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Αποτελούν το 38-48% του πλήρους αίματος (τα πιο πολυάριθμ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Περιέχουν την αιμοσφαιρίνη (χαρακτηριστικό κόκκινο χρώμα του αίματο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Βασική αποστολή: μεταφορά οξυγόνου στους ιστού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Παράγονται στα αιμοποιητικά όργαν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Ζουν ~100-120 ημέρ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Σε ~20 sec διανύουν ένα “πλήρη κύκλο” στην κυκλοφορία του αίματο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ΛΕΙΤΟΥΡΓΙΕΣ ΕΡΥΘΡΟΚΥΤΤΑΡ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96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1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Κύρια λειτουργία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Η μεταφορά Ο</a:t>
            </a:r>
            <a:r>
              <a:rPr b="1" lang="el-GR" sz="3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στους ιστούς με την αιμοσφαιρίνη που περιέχου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Συμμετέχουν και στην απομάκρυνση του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ΔΟΜΗ ΑΙΜΟΣΦΑΙΡΙΝΗ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40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1440" indent="-2714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ποτελείται από </a:t>
            </a:r>
            <a:r>
              <a:rPr b="1" lang="el-GR" sz="2600" spc="-1" strike="noStrike">
                <a:solidFill>
                  <a:srgbClr val="ff0000"/>
                </a:solidFill>
                <a:latin typeface="Arial"/>
              </a:rPr>
              <a:t>4 πεπτιδικές αλυσίδες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(σφαιρίνη), κάθε μια από τις οποίες συνδέεται με ένα μόριο </a:t>
            </a:r>
            <a:r>
              <a:rPr b="1" lang="el-GR" sz="2600" spc="-1" strike="noStrike">
                <a:solidFill>
                  <a:srgbClr val="ff0000"/>
                </a:solidFill>
                <a:latin typeface="Arial"/>
              </a:rPr>
              <a:t>αίμης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Η αίμη αποτελείται από ένα δακτύλιο </a:t>
            </a:r>
            <a:r>
              <a:rPr b="1" lang="el-GR" sz="2600" spc="-1" strike="noStrike">
                <a:solidFill>
                  <a:srgbClr val="ff0000"/>
                </a:solidFill>
                <a:latin typeface="Arial"/>
              </a:rPr>
              <a:t>πορφυρίνης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, στο κέντρο του οποίου υπάρχει ένα </a:t>
            </a:r>
            <a:r>
              <a:rPr b="1" lang="el-GR" sz="2600" spc="-1" strike="noStrike">
                <a:solidFill>
                  <a:srgbClr val="ff0000"/>
                </a:solidFill>
                <a:latin typeface="Arial"/>
              </a:rPr>
              <a:t>ιόν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l-GR" sz="2600" spc="-1" strike="noStrike">
                <a:solidFill>
                  <a:srgbClr val="ff0000"/>
                </a:solidFill>
                <a:latin typeface="Arial"/>
              </a:rPr>
              <a:t>++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Ο αναστρέψιμος δεσμός του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Fe++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με το Ο</a:t>
            </a:r>
            <a:r>
              <a:rPr b="1" lang="el-GR" sz="26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συμμετέχει κατά 97% στη μεταφορά Ο</a:t>
            </a:r>
            <a:r>
              <a:rPr b="1" lang="el-GR" sz="26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982800" y="1677960"/>
            <a:ext cx="7476840" cy="4343400"/>
          </a:xfrm>
          <a:prstGeom prst="rect">
            <a:avLst/>
          </a:prstGeom>
          <a:ln w="0">
            <a:noFill/>
          </a:ln>
        </p:spPr>
      </p:pic>
      <p:sp>
        <p:nvSpPr>
          <p:cNvPr id="107" name="Ορθογώνιο 1"/>
          <p:cNvSpPr/>
          <p:nvPr/>
        </p:nvSpPr>
        <p:spPr>
          <a:xfrm>
            <a:off x="324000" y="47628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ΔΟΜΗ ΤΗΣ ΑΙΜΟΣΦΑΙΡΙΝΗ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250920" y="260280"/>
            <a:ext cx="871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ΔΟΜΗ ΤΗΣ ΑΙΜΟΣΦΑΙΡΙΝΗ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1547640" y="1022400"/>
            <a:ext cx="619308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ΦΥΣΙΟΛΟΓΙΚΕΣ ΤΙΜΕΣ ΕΡΥΘΡΩΝ ΚΑΙ ΑΙΜΟΣΦΑΙΡΙΝΗ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843588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ριθμός ερυθρών:  Α:  4,7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5,7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x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10</a:t>
            </a:r>
            <a:r>
              <a:rPr b="1" lang="el-GR" sz="2600" spc="-1" strike="noStrike" baseline="30000">
                <a:solidFill>
                  <a:srgbClr val="002060"/>
                </a:solidFill>
                <a:latin typeface="Arial"/>
              </a:rPr>
              <a:t>6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/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mm</a:t>
            </a:r>
            <a:r>
              <a:rPr b="1" lang="el-GR" sz="2600" spc="-1" strike="noStrike" baseline="30000">
                <a:solidFill>
                  <a:srgbClr val="002060"/>
                </a:solidFill>
                <a:latin typeface="Arial"/>
              </a:rPr>
              <a:t>3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αίματο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                             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Γ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3,8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5,2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x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10</a:t>
            </a:r>
            <a:r>
              <a:rPr b="1" lang="el-GR" sz="2600" spc="-1" strike="noStrike" baseline="30000">
                <a:solidFill>
                  <a:srgbClr val="002060"/>
                </a:solidFill>
                <a:latin typeface="Arial"/>
              </a:rPr>
              <a:t>6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/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mm</a:t>
            </a:r>
            <a:r>
              <a:rPr b="1" lang="el-GR" sz="2600" spc="-1" strike="noStrike" baseline="30000">
                <a:solidFill>
                  <a:srgbClr val="002060"/>
                </a:solidFill>
                <a:latin typeface="Arial"/>
              </a:rPr>
              <a:t>3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αίματος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ΦΤ αιμοσφαιρίνης: Α: 14-16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gr/d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              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Γ: 12-14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gr/d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ΦΤ αιματοκρίτη:      Α: 42% - 52% (μ.ο. 47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                              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Γ: 37% - 47% (μ.ο. 42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ΕΡΥΘΡΟΚΥΤΤΑΡΙΚΟΙ ΔΕΙΚΤΕ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Μέσος όγκος ερυθρών (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MCV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[MCV=Ht/RB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Μέση ανά ερυθροκύτταρο ποσότητα αιμοσφαιρίνης (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MCH)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CH=(Hgb*10)/RBC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Μέση πυκνότητα ανά ερυθροκύτταρο αιμοσφαιρίνης (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MCHC)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CHC=Hgb/H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Εύρος κατανομής όγκου ερυθρών (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RD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11.5-14.5 μ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]      [RDW=SDmcv/Xmcv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Ευθεία γραμμή σύνδεσης 7"/>
          <p:cNvSpPr/>
          <p:nvPr/>
        </p:nvSpPr>
        <p:spPr>
          <a:xfrm>
            <a:off x="6443640" y="5589720"/>
            <a:ext cx="14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ΠΑΡΑΓΩΓΗ ΕΡΥΘΡΟΚΥΤΤΑ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496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4240" indent="0"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Στο έμβρυο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Αρχίζει στον εμβρυϊκό σάκο και συνεχίζεται στο ήπαρ, στον σπλήνα και στους λεμφαδένε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4240" indent="0"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Μετά τη γέννηση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Περιορίζεται μόνο στο μυελό των οστώ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4240" indent="0"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Με την πρόοδο της ηλικίας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Μειώνεται η παραγωγή στα μακρά οστά και διατηρείται μόνο στα μεμβρανώδη (σπόνδυλοι, πλευρές, λεκάνη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4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Η εξωμυελική αιμοποίηση είναι ΠΑΝΤΟΤΕ παθολογικ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ΒΙΒΛΙ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Πρακτική Αιματολογία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r>
              <a:rPr b="0" lang="el-GR" sz="3200" spc="-1" strike="noStrike">
                <a:solidFill>
                  <a:srgbClr val="333399"/>
                </a:solidFill>
                <a:latin typeface="Arial"/>
              </a:rPr>
              <a:t>Εκδ. Λαγός,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Εκπαιδευτικό υλικ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333399"/>
                </a:solidFill>
                <a:latin typeface="Arial"/>
              </a:rPr>
              <a:t>Όλες οι 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παρουσιάσεις των διαλέξεων </a:t>
            </a:r>
            <a:r>
              <a:rPr b="0" lang="el-GR" sz="3200" spc="-1" strike="noStrike">
                <a:solidFill>
                  <a:srgbClr val="333399"/>
                </a:solidFill>
                <a:latin typeface="Arial"/>
              </a:rPr>
              <a:t>βρίσκονται στο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-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333399"/>
                </a:solidFill>
                <a:latin typeface="Arial"/>
              </a:rPr>
              <a:t>Χρησιμεύουν ως σημειώσεις του μαθήματ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Ορθογώνιο 3"/>
          <p:cNvSpPr/>
          <p:nvPr/>
        </p:nvSpPr>
        <p:spPr>
          <a:xfrm>
            <a:off x="611280" y="1557360"/>
            <a:ext cx="7848360" cy="15112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ΣΤΑΔΙΑ ΕΡΥΘΡΟΠΟΙΗΣΗ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79280" y="1052640"/>
            <a:ext cx="8856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Πολυδύναμα κύτταρα (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t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Πολυδύναμα ερυθράς σειρά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002060"/>
                </a:solidFill>
                <a:latin typeface="Arial"/>
              </a:rPr>
              <a:t>(προνορμοβλάστη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Νορμοβλάστε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(βασεόφιλη, πολυχρωματόφιλη, ορθοχρωματική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Δικτυοερυθροκύτταρ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Ερυθροκύτταρ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4500720" y="1700280"/>
            <a:ext cx="144360" cy="360360"/>
          </a:xfrm>
          <a:prstGeom prst="downArrow">
            <a:avLst>
              <a:gd name="adj1" fmla="val 50000"/>
              <a:gd name="adj2" fmla="val 374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4500720" y="3068640"/>
            <a:ext cx="142560" cy="360360"/>
          </a:xfrm>
          <a:prstGeom prst="downArrow">
            <a:avLst>
              <a:gd name="adj1" fmla="val 50000"/>
              <a:gd name="adj2" fmla="val 378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4500720" y="4437000"/>
            <a:ext cx="142560" cy="360360"/>
          </a:xfrm>
          <a:prstGeom prst="downArrow">
            <a:avLst>
              <a:gd name="adj1" fmla="val 50000"/>
              <a:gd name="adj2" fmla="val 378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4500720" y="5373720"/>
            <a:ext cx="142560" cy="358920"/>
          </a:xfrm>
          <a:prstGeom prst="downArrow">
            <a:avLst>
              <a:gd name="adj1" fmla="val 50000"/>
              <a:gd name="adj2" fmla="val 377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ΠΑΡΑΓΩΓΗ ΕΡΥΘΡΩ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35164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ΔΙΑΦΟΡΟΠΟΙΗΣΗ ΕΡΥΘΡΗΣ ΣΕΙΡΑ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507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Μιτωτικές διαιρέσεις μέχρι το στάδιο του πολυχρωματικού ερυθροβλάστη, με σύγχρονη ωρίμαν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υξητικός παράγων: Ερυθροποιητίνη (Ε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PO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Αναλογία στο μυελό ~1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Καθημερινά παράγονται περί τα 2,5x109 ανά kg ΣΒ ερυθροκύτταρ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ΚΥΤΤΑΡΑ ΣΤΟ ΑΙΜ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24000" y="1052640"/>
            <a:ext cx="8496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7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Στο αίμα υπάρχουν μόνο ερυθροκύτταρα (98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και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δικτυοερυθροκύτταρα (2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Τα δικτυοερυθροκύτταρα αυξάνουν όταν υπάρχει ταχεία παραγωγή ερυθρώ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Τα ώριμα ερυθρά παίρνουν τη μορφή του αμφίκοιλου δίσκο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9999"/>
                </a:solidFill>
                <a:latin typeface="Arial"/>
              </a:rPr>
              <a:t>ΣΧΗΜΑ ΕΡΥΘΡΟΚΥΤΤΑΡΩ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Τα ώριμα ερυθρά παίρνουν τη μορφή του αμφίκοιλου δίσκο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2"/>
          <p:cNvPicPr/>
          <p:nvPr/>
        </p:nvPicPr>
        <p:blipFill>
          <a:blip r:embed="rId1"/>
          <a:stretch/>
        </p:blipFill>
        <p:spPr>
          <a:xfrm>
            <a:off x="1619280" y="1341360"/>
            <a:ext cx="621504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ΕΛΕΓΧΟΣ ΠΑΡΑΓΩΓΗΣ ΕΡΥΘΡΩΝ: ΕΡΥΘΡΟΠΟΙΗΤΙΝ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Η παραγωγή ερυθρών ελέγχεται από την ορμόνη </a:t>
            </a:r>
            <a:r>
              <a:rPr b="1" lang="el-GR" sz="2600" spc="-1" strike="noStrike">
                <a:solidFill>
                  <a:srgbClr val="ff0000"/>
                </a:solidFill>
                <a:latin typeface="Arial"/>
              </a:rPr>
              <a:t>ερυθροποιητίν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Η ερυθροποιητίνη παράγεται στους νεφρούς (Έτσι, σε νεφρική ανεπάρκεια έχουμε αναιμί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Δρα στο μυελό των οστών, αυξάνοντας την παραγωγ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214280" y="1233360"/>
            <a:ext cx="6996240" cy="50533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"/>
          <p:cNvSpPr/>
          <p:nvPr/>
        </p:nvSpPr>
        <p:spPr>
          <a:xfrm>
            <a:off x="430200" y="209520"/>
            <a:ext cx="8642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ΡΥΘΜΙΣΗ ΠΑΡΑΓΩΓΗΣ ΕΡΥΘ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ΡΥΘΜΙΣΗ ΠΑΡΑΓΩΓΗΣ ΕΡΥΘ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9" name="Picture 4" descr="4"/>
          <p:cNvPicPr/>
          <p:nvPr/>
        </p:nvPicPr>
        <p:blipFill>
          <a:blip r:embed="rId1"/>
          <a:stretch/>
        </p:blipFill>
        <p:spPr>
          <a:xfrm>
            <a:off x="2755800" y="765000"/>
            <a:ext cx="415476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ΤΡΟΦΙΚΕΣ ΑΠΑΙΤΗΣΕΙΣ ΓΙΑ ΤΗΝ ΠΑΡΑΓΩΓΗ ΕΡΥΘΡΟΚΥΤΤΑ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042560" y="1988640"/>
            <a:ext cx="7777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buClr>
                <a:srgbClr val="a227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a22700"/>
                </a:solidFill>
                <a:latin typeface="Arial"/>
              </a:rPr>
              <a:t>Βιταμίνη Β12 (κυανοκοβαλαμίνη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a227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a22700"/>
                </a:solidFill>
                <a:latin typeface="Arial"/>
              </a:rPr>
              <a:t>Φυλλικό οξ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a227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a22700"/>
                </a:solidFill>
                <a:latin typeface="Arial"/>
              </a:rPr>
              <a:t>Σίδηρ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Β</a:t>
            </a:r>
            <a:r>
              <a:rPr b="1" lang="el-GR" sz="4000" spc="-1" strike="noStrike" baseline="-25000">
                <a:solidFill>
                  <a:srgbClr val="009999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50560" y="1125360"/>
            <a:ext cx="88930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Μειωμένα επίπεδα Β</a:t>
            </a:r>
            <a:r>
              <a:rPr b="1" lang="el-GR" sz="2600" spc="-1" strike="noStrike" baseline="-25000">
                <a:solidFill>
                  <a:srgbClr val="002060"/>
                </a:solidFill>
                <a:latin typeface="Arial"/>
              </a:rPr>
              <a:t>12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και φυλλικού οξέος επηρεάζουν την διαίρεση και ωρίμανση των κυττάρ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Παρατηρείται μείωση του αριθμού ερυθρώ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Μείωση ολικής ποσότητας αιμοσφαιρίνης, (χωρίς πρόβλημα στη σύνθεση της αιμοσφαιρίνης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Παράγονται μεγάλα ανώμαλα ερυθρά, τα μακροκύτταρα (</a:t>
            </a:r>
            <a:r>
              <a:rPr b="1" lang="el-GR" sz="2600" spc="-1" strike="noStrike">
                <a:solidFill>
                  <a:srgbClr val="ff0000"/>
                </a:solidFill>
                <a:latin typeface="Arial"/>
              </a:rPr>
              <a:t>μακροκυτταρική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ναιμί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Στο μυελό υπάρχουν πρόδρομες μορφές ερυθρών, οι μακροβλάστες (</a:t>
            </a:r>
            <a:r>
              <a:rPr b="1" lang="el-GR" sz="2600" spc="-1" strike="noStrike">
                <a:solidFill>
                  <a:srgbClr val="ff0000"/>
                </a:solidFill>
                <a:latin typeface="Arial"/>
              </a:rPr>
              <a:t>μεγαλοβλαστική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ναιμί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ΤΟ ΑΙΜ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1187280" y="1628640"/>
            <a:ext cx="65008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ΑΙΤΙΕΣ ΕΛΛΕΙΨΗΣ Β</a:t>
            </a:r>
            <a:r>
              <a:rPr b="1" lang="el-GR" sz="3600" spc="-1" strike="noStrike" baseline="-25000">
                <a:solidFill>
                  <a:srgbClr val="009999"/>
                </a:solidFill>
                <a:latin typeface="Arial"/>
              </a:rPr>
              <a:t>12</a:t>
            </a: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 &amp; ΦΟΛΙΚΟ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Ανεπαρκής πρόσληψη 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από τις τροφές (ζωικών τροφίμων και πράσινων λαχανικών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Μειωμένη απορρόφηση 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Β</a:t>
            </a:r>
            <a:r>
              <a:rPr b="0" lang="el-GR" sz="2600" spc="-1" strike="noStrike" baseline="-25000">
                <a:solidFill>
                  <a:srgbClr val="002060"/>
                </a:solidFill>
                <a:latin typeface="Arial"/>
              </a:rPr>
              <a:t>12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, λόγω μειωμένης παραγωγής ενδογενούς παράγοντα από το στομάχι (συνδέεται με τη Β</a:t>
            </a:r>
            <a:r>
              <a:rPr b="0" lang="el-GR" sz="2600" spc="-1" strike="noStrike" baseline="-25000">
                <a:solidFill>
                  <a:srgbClr val="002060"/>
                </a:solidFill>
                <a:latin typeface="Arial"/>
              </a:rPr>
              <a:t>12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 και το σύμπλεγμα απορροφάται από τον ειλεό)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Η Β</a:t>
            </a:r>
            <a:r>
              <a:rPr b="0" lang="el-GR" sz="2600" spc="-1" strike="noStrike" baseline="-25000">
                <a:solidFill>
                  <a:srgbClr val="002060"/>
                </a:solidFill>
                <a:latin typeface="Arial"/>
              </a:rPr>
              <a:t>12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 αποθηκεύεται στο ήπαρ για 1-2 χρόνι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ΚΑΚΟΗΘΗΣ ΑΝΑΙΜΙ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Ελαττωμένη έκκριση ενδογενούς παράγοντ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Μείωση απορρόφησης Β</a:t>
            </a:r>
            <a:r>
              <a:rPr b="0" lang="el-GR" sz="2600" spc="-1" strike="noStrike" baseline="-25000">
                <a:solidFill>
                  <a:srgbClr val="002060"/>
                </a:solidFill>
                <a:latin typeface="Arial"/>
              </a:rPr>
              <a:t>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Μεγαλοβλαστική και μακροκυτταρική αναιμί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Αυξημένη παραγωγή χολερυθρίνης λόγω αιμόλυσης των ανώμαλων ερυθρών (ίκτερος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ΣΙΔΗΡΟ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569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Σε ανεπαρκή πρόσληψη σιδήρου, περιορίζεται η σύνθεση της αιμοσφαιρίνης      αναιμί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Τα ερυθρά είναι υπόχρωμα και μικρότερα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(</a:t>
            </a:r>
            <a:r>
              <a:rPr b="1" lang="el-GR" sz="2600" spc="-1" strike="noStrike">
                <a:solidFill>
                  <a:srgbClr val="ff0000"/>
                </a:solidFill>
                <a:latin typeface="Arial"/>
              </a:rPr>
              <a:t>υπόχρωμη μικροκυτταρική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ναιμί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ιτίες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(α) Μειωμένη πρόσληψη ή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(β) αυξημένη απώλεια (π.χ. σε χρόνια αιμορραγί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"/>
          <p:cNvSpPr/>
          <p:nvPr/>
        </p:nvSpPr>
        <p:spPr>
          <a:xfrm>
            <a:off x="5291280" y="198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ΣΙΔΗΡΟ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89647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a22700"/>
                </a:solidFill>
                <a:latin typeface="Arial"/>
              </a:rPr>
              <a:t>Πρόσληψη: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Η μέση διατροφή έχει 10-15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mg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/μέρα και απορροφάται το 1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a22700"/>
                </a:solidFill>
                <a:latin typeface="Arial"/>
              </a:rPr>
              <a:t>Απώλειες: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Οι άνδρες χάνουν 1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mg/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μέρα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οι γυναίκες 2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mg/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μέρ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a22700"/>
                </a:solidFill>
                <a:latin typeface="Arial"/>
              </a:rPr>
              <a:t>Απορρόφηση: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πορροφάται με τη βοήθεια της τρανσφερίνης του εντέρου και τους υποδοχείς τρανσφερίνης-σιδήρου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Η απορρόφηση αυξάνει όταν αυξάνουν οι ανάγκες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Η τρανσφερίνη του πλάσματος μεταφέρει το σίδηρο στην κυκλοφορία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a22700"/>
                </a:solidFill>
                <a:latin typeface="Arial"/>
              </a:rPr>
              <a:t>Αποθήκευση: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Τα επιπλέον ποσά αποθηκεύονται με τη μορφή φεριτίνης ή αιμοσιδηρίνης σε ήπαρ, σπλήνα και μυελό οστώ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4920" y="115920"/>
            <a:ext cx="849636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ΚΥΚΛΟΣ ΤΟΥ ΣΙΔΗΡΟ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3"/>
          <p:cNvPicPr/>
          <p:nvPr/>
        </p:nvPicPr>
        <p:blipFill>
          <a:blip r:embed="rId1"/>
          <a:stretch/>
        </p:blipFill>
        <p:spPr>
          <a:xfrm>
            <a:off x="2124000" y="765000"/>
            <a:ext cx="4608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ΤΑΧΥΤΗΤΑ ΚΑΘΙΖΗΣΗΣ ΕΡΥΘ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964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spcAft>
                <a:spcPts val="975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Σε μια κάθετη στήλη αίματος με αντιπηκτικό τα ερυθρά πέφτουν αργά προς τα κάτω, αφήνοντας από πάνω το πλάσμα. Ο ρυθμός καθίζησης αυξάνεται σε ορισμένα νοσήματ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spcAft>
                <a:spcPts val="975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Για το λόγο αυτό, η ταχύτητα καθίζησης ερυθρών (ΤΚΕ) αποτελεί συνήθη εργαστηριακή  εξέταση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spcAft>
                <a:spcPts val="975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ΦΤ: 5-10 </a:t>
            </a: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mm/h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. (Σε εγκυμοσύνη περισσότερο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spcAft>
                <a:spcPts val="975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Αυξημένες τιμές ΤΚΕ συνδέονται με αύξηση ανοσοσφαιρινών, που ευνοούν τη δημιουργία συσσωμάτων, που καθιζάνουν ταχύτερ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ΚΑΤΑΣΤΡΟΦΗ ΕΡΥΘΡΟΚΥΤΤΑ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820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42880" indent="-35712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a22700"/>
                </a:solidFill>
                <a:latin typeface="Arial"/>
              </a:rPr>
              <a:t>Μέσος όρος ζωής: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120 ημέρε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2880" indent="-35712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a22700"/>
                </a:solidFill>
                <a:latin typeface="Arial"/>
              </a:rPr>
              <a:t>Καταστροφή: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στο σπλήνα και το ήπα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2880" indent="-35712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a22700"/>
                </a:solidFill>
                <a:latin typeface="Arial"/>
              </a:rPr>
              <a:t>Φαγοκύτταρα του ΔΕΣ: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ποδομούν την αιμοσφαιρίν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2880" indent="-35712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a22700"/>
                </a:solidFill>
                <a:latin typeface="Arial"/>
              </a:rPr>
              <a:t>Ο σίδηρος της αίμης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νακυκλώνετα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2880" indent="-35712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a22700"/>
                </a:solidFill>
                <a:latin typeface="Arial"/>
              </a:rPr>
              <a:t>Τα αμινοξέα της σφαιρίνης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νακυκλώνοντα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2880" indent="-35712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a22700"/>
                </a:solidFill>
                <a:latin typeface="Arial"/>
              </a:rPr>
              <a:t>Οι δακτύλιοι πορφυρίνης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γίνονται χολερυθρίνη (αποβολή μέσω χολής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ΚΑΤΑΣΤΡΟΦΗ ΕΡΥΘ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rcRect l="0" t="2691" r="0" b="0"/>
          <a:stretch/>
        </p:blipFill>
        <p:spPr>
          <a:xfrm>
            <a:off x="857160" y="928800"/>
            <a:ext cx="76201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Ορθογώνιο 1"/>
          <p:cNvSpPr/>
          <p:nvPr/>
        </p:nvSpPr>
        <p:spPr>
          <a:xfrm>
            <a:off x="611280" y="115920"/>
            <a:ext cx="8424720" cy="56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ΔΙΑΤΑΡΑΧΕΣ ΕΡΥΘ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Αναιμία:</a:t>
            </a:r>
            <a:r>
              <a:rPr b="0" lang="el-GR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ελάττωση του Hct και της αιμοσφαιρίνης (♀&lt;12g/dl, ♂&lt;13g/dl), λόγω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- Μείωσης της παραγωγής ερυθρών στο μυελ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- Μειωμένης επιβίωσης των ερυθρών (μη αποδοτική ερυθροποίηση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- Αύξησης της καταστροφής ερυθρών (αιμόλυση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O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ξείας ή χρόνιας απώλειας ερυθρών (αιμορραγί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- Συνδυασμού των παραπάν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ΔΙΑΤΑΡΑΧΕΣ ΕΡΥΘ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820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Μειωμένη παραγωγή ερυθρών: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Αιτίε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Διήθηση</a:t>
            </a:r>
            <a:r>
              <a:rPr b="0" lang="el-GR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μυελού από νεοπλασματικά κύτταρα (λευχαιμίες, λεμφώματα, πολλαπλούν μυέλωμα κλ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Μυελική ίνωσ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πλαστική αναιμί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Τροφικές διαταραχές (έλλειψη Β12, φυλλικού, 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Ακτινοβόληση μυελο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Μειωμένη παραγωγή ερυθροποιητίνης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(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ΧΝ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Θυρεοειδοπάθει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ΤΟ ΑΙΜ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Ρευστός ιστό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Μεταφέρεται μέσα στα αγγε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Είναι εναιώρημα έμμορφων στοιχείων μέσα στο πλάσμα (άμορφο συστατικ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Αποτελεί το7% του ανθρώπινου βάρους (70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ml/k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ΔΙΑΤΑΡΑΧΕΣ ΕΡΥΘ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569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220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Αιμόλυση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: καταστροφή των ερυθρών ενδοαγγειακά ή εξωαγγειακά (ΔΕΣ), λόγω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20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22068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Ενδο-ερυθροκυτταρικής αιτί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20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(αιμοσφαιρινοπάθειες, μεμβρανοπάθειες, ενζυμοπάθειες, έλλειψη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G6PD,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 κλ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20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22068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Εξω-ερυθροκυτταρικής αιτί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(αυτοάνοση αιμολυτική αναιμία, αλλοάνοση αιμολυτική αναιμία, από φάρμακα και χημικές ουσίες,φυτικά και ζωικά δηλητήρια, μηχανικού τύπου αιμόλυση κλ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20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755640" y="18900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ΛΕΙΤΟΥΡΓΙΕΣ ΤΟΥ ΑΙ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179280" y="1125360"/>
            <a:ext cx="8713800" cy="65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just">
              <a:spcBef>
                <a:spcPts val="649"/>
              </a:spcBef>
              <a:spcAft>
                <a:spcPts val="814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Μεταφορά Ο</a:t>
            </a:r>
            <a:r>
              <a:rPr b="0" lang="el-GR" sz="26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 και θρεπτικών ουσιώ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649"/>
              </a:spcBef>
              <a:spcAft>
                <a:spcPts val="814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Μεταφορά CO</a:t>
            </a:r>
            <a:r>
              <a:rPr b="0" lang="el-GR" sz="26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 και αζωτ. προϊόντων μεταβολισμο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649"/>
              </a:spcBef>
              <a:spcAft>
                <a:spcPts val="814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Μεταφορά αντισωμάτων, παραγόντων της πήξης του αίματος, καθώς και διαφόρων άλλων μορίων (π.χ. ορμόνες, βιταμίνες, ιχνοστοιχεία κλπ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649"/>
              </a:spcBef>
              <a:spcAft>
                <a:spcPts val="814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Συμμετοχή στη ρύθμιση της θερμοκρασία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649"/>
              </a:spcBef>
              <a:spcAft>
                <a:spcPts val="814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Συμμετοχή στη ρύθμιση της οξεοβασικής ισορροπία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649"/>
              </a:spcBef>
              <a:spcAft>
                <a:spcPts val="814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Συμμετοχή στη ρύθμιση της οσμωτικής ισορροπία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649"/>
              </a:spcBef>
              <a:spcAft>
                <a:spcPts val="814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Συμμετοχή στην άμυνα του οργανισμού (λευκοκύτταρα, μεταφορά αντισωμάτων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649"/>
              </a:spcBef>
              <a:spcAft>
                <a:spcPts val="814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Έλεγχος της αιμόσταση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5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ΟΓΚΟΣ ΤΟΥ ΑΙ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70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ml/kgr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βάρους σώματ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Δηλαδή σε ένα ενήλικα 70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kgr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είναι περίπου 5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l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ΣΥΣΤΑΤΙΚΑ ΤΟΥ ΑΙ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6" name="Picture 4" descr="1"/>
          <p:cNvPicPr/>
          <p:nvPr/>
        </p:nvPicPr>
        <p:blipFill>
          <a:blip r:embed="rId1"/>
          <a:stretch/>
        </p:blipFill>
        <p:spPr>
          <a:xfrm>
            <a:off x="3305160" y="1393920"/>
            <a:ext cx="340200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ΣΥΣΤΑΤΙΚΑ ΤΟΥ ΑΙ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96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8604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Βρίσκονται στο πλάσμ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8604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- Αλβουμίν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8604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- Σφαιρίν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8604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- Ινωδογόν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86040" indent="0">
              <a:spcBef>
                <a:spcPts val="7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86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Ερυθροκύτταρ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86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Λευκοκύτταρ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86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ιμοπετάλι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86040" indent="0" algn="ctr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116000" y="1700280"/>
            <a:ext cx="1511280" cy="431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cc3300"/>
                </a:solidFill>
                <a:latin typeface="Arial"/>
              </a:rPr>
              <a:t>ΟΥΣΙΕ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1187280" y="3933720"/>
            <a:ext cx="1584360" cy="43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cc3300"/>
                </a:solidFill>
                <a:latin typeface="Arial"/>
              </a:rPr>
              <a:t>ΚΥΤΤΑΡ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16:00:50Z</dcterms:created>
  <dc:creator>a</dc:creator>
  <dc:description/>
  <dc:language>en-US</dc:language>
  <cp:lastModifiedBy>Χρήστος</cp:lastModifiedBy>
  <dcterms:modified xsi:type="dcterms:W3CDTF">2015-03-05T06:19:35Z</dcterms:modified>
  <cp:revision>52</cp:revision>
  <dc:subject/>
  <dc:title>ΗΛΕΚΤΡΙΚΑ ΣΗΜΑΤΑ ΚΑΙ ΔΙΕΓΕΡΣΙΜΑ ΚΥΤΤΑΡΑ</dc:title>
</cp:coreProperties>
</file>